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1CDA-1228-4354-9F7C-DABC491CC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5388-A34A-4219-ACCB-8028ECC0DE0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4155E1-1D92-49C7-97C6-798F925F967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50A7-2F8B-4440-A03E-3767D338B4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B74C-377A-43AB-99AE-CF1803991E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1809-02CD-4804-AE3F-C1E4132966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267F-56E1-448C-AE6A-6C9A4A1C3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D6B9-1090-4045-A1B3-8584C6A437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3237-6E14-4ED4-A40F-8CD0D035C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BB84-FBC4-4721-860F-D2027D6C74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5019-C928-44D1-A49C-303ED1019B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0535-E0FE-42DF-8972-A08D1E78C9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73E8-256C-4FE4-A94D-D04D38D81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DA3C-FA23-4825-9EF7-8C0F72EDCC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9A6D-7BB6-48CE-8DEF-9902E8C21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4F59-4AC1-4566-A1A7-B2BDB4E7B2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1C2C-7B48-40EC-8D10-49D795B373A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FAA2-1DFB-475C-94E9-451D02FCB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F7FC-D93C-4737-8AA0-EEB6CCF98E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ADD1-DD59-49AD-B23B-E599DFF92A3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2B35-5ADE-4F36-8D13-25D043C86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F23B-868F-4126-8D9E-19DDC1460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8ABD-0B2A-408F-9F0E-EBB8FE479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2832F-CA20-41E0-882A-69E6D1CEB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2A633-CB90-43B4-882C-6CB166FD4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BC86E-4185-429C-B25C-DEA2D38CD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1C25B-2F82-423C-B645-D2E1A344B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81A-154E-4097-AC32-FF476A260D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B67A-01A6-4AEC-8550-E56AAE053C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42C-E185-4555-9402-F6A8DF75F0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6A8A-9C95-4605-B7F2-AF092C7C6D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4A7-25E0-4009-B411-D6F7DA4BA2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FCD-00F2-45AB-867F-D8909714CA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EA9-AA2A-49BA-A898-6E735A106B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F5F9-0D05-4EF4-8974-3A1C76D19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DC6-2FD6-44B5-ACD3-B7011BD5C9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DDCE-38A3-406D-B7FC-D246D4464E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E642-7CF7-4614-A7BC-257CD0CD48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8CE-38A8-4B87-AC32-B057D7A101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8826-FE43-4A75-AB19-7F231A1883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F6649-D271-4102-8899-3AA5330B23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AFB5D-0A5A-4237-9512-F7BE6F5AA1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9CB83-5B57-43A8-8E7B-A793AA14B3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CA001-477C-4F09-9C42-F1675DA2C9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4BCD7-EB94-47F9-83C8-709ACD2E46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E8318-E938-4B90-A95A-CB2E22C4B3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2E0D1-9BF8-427D-8FE7-CACC526066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159B2-3B38-4F0C-A2E2-E9EE57BE53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A491A-2F74-4032-8C98-68E10899C0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0260C-9D30-44B5-BFD4-E47F42B1DB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C78F5-E2E3-4D31-8477-EDF8D13081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414DA-A7C8-4FCF-AABB-5A474A727B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41E3A-6B81-4E73-8B41-52602F582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5A9F2-F5AC-4CE6-A89B-52E6655CA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709A7-BD52-40C9-B4EA-7D1FD64AB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215DE-190B-4407-AD3C-AB9E8F4DD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012E2-146D-40B4-8A13-DFE261983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C73EF-CC1B-49BF-9F82-16975F28B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F387B-BC08-45B5-BA56-6010E0135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352560"/>
            <a:ext cx="54100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A581-CEA1-4589-82F6-6E6B7AF70D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A78C-4055-4EA4-ABAD-C4B9E70BB5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457200" y="6324120"/>
            <a:ext cx="6781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8000640" y="6324120"/>
            <a:ext cx="685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5BF2-D326-4BE4-920E-EA59788A27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74" name="Text Box 16"/>
          <p:cNvSpPr/>
          <p:nvPr/>
        </p:nvSpPr>
        <p:spPr>
          <a:xfrm>
            <a:off x="1639800" y="1803240"/>
            <a:ext cx="758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троль процессов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троль качества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чественных и полуколичественных анализов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 использовании традиционных контрол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577520"/>
            <a:ext cx="853452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уйте 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кже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пробы пац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положительный и отрицательный контро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ите слабо положительный контроль для иммунологических процед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оложительный контроль, близкий к порогу чувстви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ите контроль, который проверит этап выд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9135-9666-4D0D-B3D4-4ADF1052BF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ные штаммы для К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240" y="1231560"/>
            <a:ext cx="83818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алонные шт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штаммы, полученны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нозируемые реа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расители и сре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яют, что среды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ы и расход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териалы работают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4" descr="qc_bacteria"/>
          <p:cNvPicPr/>
          <p:nvPr/>
        </p:nvPicPr>
        <p:blipFill>
          <a:blip r:embed="rId1"/>
          <a:stretch/>
        </p:blipFill>
        <p:spPr>
          <a:xfrm>
            <a:off x="5638680" y="2286000"/>
            <a:ext cx="3200400" cy="2755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qc_growth_poor_growth_cdc"/>
          <p:cNvPicPr/>
          <p:nvPr/>
        </p:nvPicPr>
        <p:blipFill>
          <a:blip r:embed="rId2"/>
          <a:stretch/>
        </p:blipFill>
        <p:spPr>
          <a:xfrm>
            <a:off x="4800600" y="441972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280" name="Slide Number Placeholder 5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7C53-6F52-4DE2-8006-8F60E31C1A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1" name="Footer Placeholder 6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67464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точники для приобретения                      эталонных штамм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3520" y="2057400"/>
            <a:ext cx="815328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мериканская коллек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овых культ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циональная коллек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овых культ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ликобрит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ллекция Института Паст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ранц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7B66-9A2B-4FAF-B058-1670BACDBC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552240"/>
            <a:ext cx="838188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4316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сители важны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–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заботьтесь о них!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5" descr="PICT0136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PICT0018"/>
          <p:cNvPicPr/>
          <p:nvPr/>
        </p:nvPicPr>
        <p:blipFill>
          <a:blip r:embed="rId2"/>
          <a:stretch/>
        </p:blipFill>
        <p:spPr>
          <a:xfrm>
            <a:off x="4952880" y="220968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0"/>
          <p:cNvSpPr/>
          <p:nvPr/>
        </p:nvSpPr>
        <p:spPr>
          <a:xfrm>
            <a:off x="5004000" y="525780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икакого внимания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660600" y="52578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Verdana"/>
              </a:rPr>
              <a:t>Постоянное внимани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8229600" y="64044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3638-AEC1-4465-959B-43398F0CA2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красителям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меняйте установленные процедуры для приготовления и раствор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икетка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держание, концентрация, даты приготовления и начала использования, срок годности, инициа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раните правиль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CEC5-282A-41E7-9A52-61AC1944E3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нтроль качества для красителей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55320" y="1066680"/>
            <a:ext cx="855972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яйте в зависимости от конкретного крас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известными микроорганизмами или клетк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образование кристаллов или осад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онтаминацию (бактерии или гриб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4" descr="hematol"/>
          <p:cNvPicPr/>
          <p:nvPr/>
        </p:nvPicPr>
        <p:blipFill>
          <a:blip r:embed="rId1"/>
          <a:stretch/>
        </p:blipFill>
        <p:spPr>
          <a:xfrm>
            <a:off x="609480" y="4267080"/>
            <a:ext cx="2743200" cy="19814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3505320" y="434340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ева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крашивание по Райту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рава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крашивание по Граму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1" name="Picture 6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5867280" y="4267080"/>
            <a:ext cx="2210040" cy="201960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E254-87E6-4430-9C73-0A80479B16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3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крашивание по Граму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0" y="50547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Verdana"/>
              </a:rPr>
              <a:t>Хорошее</a:t>
            </a: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Verdana"/>
              </a:rPr>
              <a:t>качеств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4419720" y="50547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лохое</a:t>
            </a: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E047-8F3A-4F22-829A-3135142A1F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9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К микробиологических сред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яйте рабочие характеристики всех сре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готовленные в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се парт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упленны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лько новую сер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7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9"/>
          <p:cNvSpPr/>
          <p:nvPr/>
        </p:nvSpPr>
        <p:spPr>
          <a:xfrm>
            <a:off x="3505320" y="3726000"/>
            <a:ext cx="236196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К агара МакКонки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ева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е ферментирующий лактозу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права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ерментирующий лактозу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A8AF-22DC-4A43-8B0C-41420F5136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збегать следующих проблем со средам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19" name="Group 28"/>
          <p:cNvGrpSpPr/>
          <p:nvPr/>
        </p:nvGrpSpPr>
        <p:grpSpPr>
          <a:xfrm>
            <a:off x="4876920" y="1295280"/>
            <a:ext cx="4190400" cy="1524240"/>
            <a:chOff x="4876920" y="1295280"/>
            <a:chExt cx="4190400" cy="1524240"/>
          </a:xfrm>
        </p:grpSpPr>
        <p:grpSp>
          <p:nvGrpSpPr>
            <p:cNvPr id="320" name="Group 7"/>
            <p:cNvGrpSpPr/>
            <p:nvPr/>
          </p:nvGrpSpPr>
          <p:grpSpPr>
            <a:xfrm>
              <a:off x="4876920" y="1295280"/>
              <a:ext cx="2514240" cy="914400"/>
              <a:chOff x="4876920" y="1295280"/>
              <a:chExt cx="2514240" cy="914400"/>
            </a:xfrm>
          </p:grpSpPr>
          <p:sp>
            <p:nvSpPr>
              <p:cNvPr id="321" name="AutoShape 8"/>
              <p:cNvSpPr/>
              <p:nvPr/>
            </p:nvSpPr>
            <p:spPr>
              <a:xfrm>
                <a:off x="4955400" y="1752480"/>
                <a:ext cx="2396520" cy="399960"/>
              </a:xfrm>
              <a:prstGeom prst="can">
                <a:avLst>
                  <a:gd name="adj" fmla="val 50000"/>
                </a:avLst>
              </a:prstGeom>
              <a:solidFill>
                <a:srgbClr val="ff260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AutoShape 9"/>
              <p:cNvSpPr/>
              <p:nvPr/>
            </p:nvSpPr>
            <p:spPr>
              <a:xfrm>
                <a:off x="4876920" y="1295280"/>
                <a:ext cx="2514240" cy="914400"/>
              </a:xfrm>
              <a:prstGeom prst="can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3" name="Group 10"/>
            <p:cNvGrpSpPr/>
            <p:nvPr/>
          </p:nvGrpSpPr>
          <p:grpSpPr>
            <a:xfrm>
              <a:off x="6553080" y="1905120"/>
              <a:ext cx="2514240" cy="914400"/>
              <a:chOff x="6553080" y="1905120"/>
              <a:chExt cx="2514240" cy="914400"/>
            </a:xfrm>
          </p:grpSpPr>
          <p:sp>
            <p:nvSpPr>
              <p:cNvPr id="324" name="AutoShape 11"/>
              <p:cNvSpPr/>
              <p:nvPr/>
            </p:nvSpPr>
            <p:spPr>
              <a:xfrm>
                <a:off x="6553080" y="2019240"/>
                <a:ext cx="2514240" cy="800280"/>
              </a:xfrm>
              <a:prstGeom prst="can">
                <a:avLst>
                  <a:gd name="adj" fmla="val 50000"/>
                </a:avLst>
              </a:prstGeom>
              <a:solidFill>
                <a:srgbClr val="ff260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325" name="Group 12"/>
              <p:cNvGrpSpPr/>
              <p:nvPr/>
            </p:nvGrpSpPr>
            <p:grpSpPr>
              <a:xfrm>
                <a:off x="7353000" y="2019240"/>
                <a:ext cx="456840" cy="199800"/>
                <a:chOff x="7353000" y="2019240"/>
                <a:chExt cx="456840" cy="199800"/>
              </a:xfrm>
            </p:grpSpPr>
            <p:sp>
              <p:nvSpPr>
                <p:cNvPr id="326" name="Oval 13"/>
                <p:cNvSpPr/>
                <p:nvPr/>
              </p:nvSpPr>
              <p:spPr>
                <a:xfrm>
                  <a:off x="7524360" y="2019240"/>
                  <a:ext cx="114120" cy="56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7" name="Oval 14"/>
                <p:cNvSpPr/>
                <p:nvPr/>
              </p:nvSpPr>
              <p:spPr>
                <a:xfrm>
                  <a:off x="7353000" y="2019240"/>
                  <a:ext cx="456840" cy="1998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8" name="Oval 15"/>
                <p:cNvSpPr/>
                <p:nvPr/>
              </p:nvSpPr>
              <p:spPr>
                <a:xfrm>
                  <a:off x="7381440" y="2019240"/>
                  <a:ext cx="399960" cy="1713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9" name="Oval 16"/>
                <p:cNvSpPr/>
                <p:nvPr/>
              </p:nvSpPr>
              <p:spPr>
                <a:xfrm>
                  <a:off x="7409880" y="2019240"/>
                  <a:ext cx="342720" cy="142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0" name="Oval 17"/>
                <p:cNvSpPr/>
                <p:nvPr/>
              </p:nvSpPr>
              <p:spPr>
                <a:xfrm>
                  <a:off x="7438680" y="2019240"/>
                  <a:ext cx="285480" cy="1141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1" name="Oval 18"/>
                <p:cNvSpPr/>
                <p:nvPr/>
              </p:nvSpPr>
              <p:spPr>
                <a:xfrm>
                  <a:off x="7467120" y="2019240"/>
                  <a:ext cx="228240" cy="85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24480" bIns="24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2" name="Oval 19"/>
                <p:cNvSpPr/>
                <p:nvPr/>
              </p:nvSpPr>
              <p:spPr>
                <a:xfrm>
                  <a:off x="7495560" y="2019240"/>
                  <a:ext cx="171360" cy="56880"/>
                </a:xfrm>
                <a:prstGeom prst="ellipse">
                  <a:avLst/>
                </a:prstGeom>
                <a:noFill/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33" name="AutoShape 20"/>
              <p:cNvSpPr/>
              <p:nvPr/>
            </p:nvSpPr>
            <p:spPr>
              <a:xfrm>
                <a:off x="6553080" y="1905120"/>
                <a:ext cx="2514240" cy="914400"/>
              </a:xfrm>
              <a:prstGeom prst="can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334" name="Group 21"/>
              <p:cNvGrpSpPr/>
              <p:nvPr/>
            </p:nvGrpSpPr>
            <p:grpSpPr>
              <a:xfrm>
                <a:off x="8295840" y="2076480"/>
                <a:ext cx="456840" cy="199800"/>
                <a:chOff x="8295840" y="2076480"/>
                <a:chExt cx="456840" cy="199800"/>
              </a:xfrm>
            </p:grpSpPr>
            <p:sp>
              <p:nvSpPr>
                <p:cNvPr id="335" name="Oval 22"/>
                <p:cNvSpPr/>
                <p:nvPr/>
              </p:nvSpPr>
              <p:spPr>
                <a:xfrm>
                  <a:off x="8467200" y="2076480"/>
                  <a:ext cx="114120" cy="56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6" name="Oval 23"/>
                <p:cNvSpPr/>
                <p:nvPr/>
              </p:nvSpPr>
              <p:spPr>
                <a:xfrm>
                  <a:off x="8295840" y="2076480"/>
                  <a:ext cx="456840" cy="1998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7" name="Oval 24"/>
                <p:cNvSpPr/>
                <p:nvPr/>
              </p:nvSpPr>
              <p:spPr>
                <a:xfrm>
                  <a:off x="8324280" y="2076480"/>
                  <a:ext cx="399960" cy="1713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8" name="Oval 25"/>
                <p:cNvSpPr/>
                <p:nvPr/>
              </p:nvSpPr>
              <p:spPr>
                <a:xfrm>
                  <a:off x="8352720" y="2076480"/>
                  <a:ext cx="342720" cy="142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9" name="Oval 26"/>
                <p:cNvSpPr/>
                <p:nvPr/>
              </p:nvSpPr>
              <p:spPr>
                <a:xfrm>
                  <a:off x="8381520" y="2076480"/>
                  <a:ext cx="285480" cy="1141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0" name="Oval 27"/>
                <p:cNvSpPr/>
                <p:nvPr/>
              </p:nvSpPr>
              <p:spPr>
                <a:xfrm>
                  <a:off x="8409960" y="2076480"/>
                  <a:ext cx="228240" cy="85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24480" bIns="24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1" name="Oval 28"/>
                <p:cNvSpPr/>
                <p:nvPr/>
              </p:nvSpPr>
              <p:spPr>
                <a:xfrm>
                  <a:off x="8438400" y="2076480"/>
                  <a:ext cx="171360" cy="56880"/>
                </a:xfrm>
                <a:prstGeom prst="ellipse">
                  <a:avLst/>
                </a:prstGeom>
                <a:noFill/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342" name="Text Box 32"/>
          <p:cNvSpPr/>
          <p:nvPr/>
        </p:nvSpPr>
        <p:spPr>
          <a:xfrm>
            <a:off x="836640" y="1695600"/>
            <a:ext cx="44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сохший агар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ированные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533520" y="3112920"/>
            <a:ext cx="8153280" cy="265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еловеческую кров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дует использовать, потому чт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ишком  большая вариация между сериями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 содержать ингибиторы, включая антибактериальны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нциальная биологическая опасность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имер, вирусы гепати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4" name="Picture 27" descr="bio_hazrd_red_blk_cdc"/>
          <p:cNvPicPr/>
          <p:nvPr/>
        </p:nvPicPr>
        <p:blipFill>
          <a:blip r:embed="rId1"/>
          <a:stretch/>
        </p:blipFill>
        <p:spPr>
          <a:xfrm>
            <a:off x="7023240" y="5432400"/>
            <a:ext cx="1143000" cy="892080"/>
          </a:xfrm>
          <a:prstGeom prst="rect">
            <a:avLst/>
          </a:prstGeom>
          <a:ln w="0">
            <a:noFill/>
          </a:ln>
        </p:spPr>
      </p:pic>
      <p:sp>
        <p:nvSpPr>
          <p:cNvPr id="345" name="Slide Number Placeholder 28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3D09-6801-4CA5-BFC2-87C59FDFCE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Footer Placeholder 29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431280"/>
            <a:ext cx="8382240" cy="5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качества ростовых сред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8" name="Picture 3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457200" y="1184400"/>
            <a:ext cx="8153280" cy="506412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8"/>
          <p:cNvSpPr/>
          <p:nvPr/>
        </p:nvSpPr>
        <p:spPr>
          <a:xfrm>
            <a:off x="380880" y="1143000"/>
            <a:ext cx="838224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едите записи сред, приготовленных в лаборатории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писывайте в журнал для сре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р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териль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пособность поддерживать рост контрольных штаммов, биохимические реакции контрольных штаммов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та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еряйте каждую новую партию или серию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2B57-E81C-44A7-A998-8D6EECF728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Footer Placeholder 5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495440"/>
            <a:ext cx="8407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ить встроенные и традиционные контро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использовать контрольные культуры для микробиологического К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рименение процедур по контролю качества красителей, используемых в микроскопических исследовани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методы проверки характеристик микробиологических сред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79F6-A912-4C23-AF64-54DBE7D146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   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8305920" cy="41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енные анализы дают нечисловые результа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луколичественные анализы дают оценк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ведите программу КК для качественных и полуколичественных анализ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F72B-A65B-4A1E-A626-715B5A433C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371240"/>
            <a:ext cx="83818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 КК соблюдаются ВСЕМИ сотруд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гда записывайте результаты КК и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сли результаты КК не приемлемы, то не выдавайте отчет с результатами анализов пациентов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2324-4850-4A35-A8BC-B0B00BA08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036E-D485-4291-92EE-1F48A02D30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6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6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9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1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9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0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0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1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1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1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1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1" lang="en-US" sz="9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420" name="Footer Placeholder 1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А провела культуральное исследование и идентифициро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негнойную палочк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меры контроля качества вы бы использовали, чтобы подтвердить, что микроорганизм был определен правильн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E21F-5E44-4464-AD0D-846F12B41B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7600-F7EE-48C6-8C2D-2F53179565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20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1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47" name="Footer Placeholder 1"/>
          <p:cNvSpPr/>
          <p:nvPr/>
        </p:nvSpPr>
        <p:spPr>
          <a:xfrm>
            <a:off x="457200" y="6352920"/>
            <a:ext cx="541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чественные и полуколичественные исследования – Пример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90720" y="1676520"/>
            <a:ext cx="640080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кроскопические исследования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ст-полоски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рологические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кробиологические процедур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юбые реакции, которые дают нечисловой результ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990720" y="4495680"/>
            <a:ext cx="6572160" cy="1690560"/>
            <a:chOff x="990720" y="4495680"/>
            <a:chExt cx="6572160" cy="1690560"/>
          </a:xfrm>
        </p:grpSpPr>
        <p:pic>
          <p:nvPicPr>
            <p:cNvPr id="251" name="Picture 6" descr="micro"/>
            <p:cNvPicPr/>
            <p:nvPr/>
          </p:nvPicPr>
          <p:blipFill>
            <a:blip r:embed="rId1"/>
            <a:srcRect l="0" t="0" r="4400" b="1607"/>
            <a:stretch/>
          </p:blipFill>
          <p:spPr>
            <a:xfrm>
              <a:off x="5105520" y="4495680"/>
              <a:ext cx="2457360" cy="16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" descr="agglut"/>
            <p:cNvPicPr/>
            <p:nvPr/>
          </p:nvPicPr>
          <p:blipFill>
            <a:blip r:embed="rId2"/>
            <a:srcRect l="15272" t="17455" r="15272" b="14546"/>
            <a:stretch/>
          </p:blipFill>
          <p:spPr>
            <a:xfrm>
              <a:off x="2895840" y="4495680"/>
              <a:ext cx="22096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8" descr="http://www.academic.marist.edu/~jzmz/methods/wbcrbc.jpg"/>
            <p:cNvPicPr/>
            <p:nvPr/>
          </p:nvPicPr>
          <p:blipFill>
            <a:blip r:embed="rId3"/>
            <a:srcRect l="20336" t="0" r="0" b="0"/>
            <a:stretch/>
          </p:blipFill>
          <p:spPr>
            <a:xfrm>
              <a:off x="990720" y="4495680"/>
              <a:ext cx="1941480" cy="16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Slide Number Placeholder 7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4DDD-DDCB-4EFB-8061-069644B395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Footer Placeholder 8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принцип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117440" y="1606680"/>
            <a:ext cx="71884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мпетентность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служивание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ьные материа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красителями, средами и реаг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де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0352-2012-4ABA-BF49-45FD7ED349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териалы для контроля качеств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84280" y="1828440"/>
            <a:ext cx="840744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строенные контрол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ные материалы, имитирующие пробы пациент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ные микроорганизм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C7D4-C359-4036-93CE-08787F905C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35292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строенные контрол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9880" y="1599840"/>
            <a:ext cx="82551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троены в приспособление для проведения тес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ируются автоматически при выполнении тес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вают определенные аспекты работы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можно, не оценивают весь процесс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8077320" y="640440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0BCA-976B-4A22-9819-88AD1EBA81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35292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диционные контроли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31640" y="1887120"/>
            <a:ext cx="840744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ы с известными свой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итируют пробы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вают работу всей аналитической сист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8153280" y="640440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5306-A7F5-4E68-9C61-B6E751476C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35292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Olga</cp:lastModifiedBy>
  <dcterms:modified xsi:type="dcterms:W3CDTF">2013-05-12T09:19:44Z</dcterms:modified>
  <cp:revision>505</cp:revision>
  <dc:subject/>
  <dc:title>Slide 1</dc:title>
</cp:coreProperties>
</file>